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73A-1905-410E-A1CC-8AEBADA9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B52-8078-41F0-A144-AFB0F86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82A-DB57-4688-8F53-CC353A47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703-9ED3-4194-AF32-C3CE2E30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78-7FDA-4EAD-8416-DFF33D26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114-F822-454C-A390-E32246A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7F9-02BB-4BCB-AC8F-A742BE3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38F-86B4-4952-AB77-AD1A67F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28C-4C31-4B10-8BB3-B87FE5B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227-D042-4776-9C6E-B608671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77C-8EED-44A5-9AE9-EF05CAD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232-6EAB-43ED-A21A-2CC44E3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0E05-B778-440C-B5B8-862B6DF1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219320"/>
            <a:ext cx="8229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Tell me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the Italian for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80880"/>
            <a:ext cx="8534520" cy="2133720"/>
          </a:xfrm>
          <a:prstGeom prst="wedgeRoundRectCallout">
            <a:avLst>
              <a:gd name="adj1" fmla="val -39787"/>
              <a:gd name="adj2" fmla="val 80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FAMILY THERE ARE THREE PEO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M TALL, MY MOTHER IS VERY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Y FATHER IS THE TALLEST OF US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352680"/>
            <a:ext cx="8229600" cy="2438640"/>
          </a:xfrm>
          <a:prstGeom prst="wedgeRoundRectCallout">
            <a:avLst>
              <a:gd name="adj1" fmla="val 43000"/>
              <a:gd name="adj2" fmla="val 758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LLA MIA FAMIGLIA CI SONO TRE PERS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 SONO ALTA/O, MIA MADRE E’ MOLTO 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LTISS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MIO PADRE E’ IL PIU’ ALTO DI NOI TUT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001000" cy="2361960"/>
          </a:xfrm>
          <a:prstGeom prst="wedgeRoundRectCallout">
            <a:avLst>
              <a:gd name="adj1" fmla="val -52023"/>
              <a:gd name="adj2" fmla="val 642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NIGHT I SAW A GREAT MOV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Y FRIEND S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ET AT 7:00 AND TOOK THE BUS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ATRE.  THE TICKET WAS FREE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ON IT AT A RAFF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124080"/>
            <a:ext cx="8153280" cy="3124440"/>
          </a:xfrm>
          <a:prstGeom prst="wedgeRoundRectCallout">
            <a:avLst>
              <a:gd name="adj1" fmla="val 43865"/>
              <a:gd name="adj2" fmla="val 60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RI SERA HO VISTO UN BEL FILM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A AMICA SARA:  CI SIAMO INCONTR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 7:00 E ABBIAMO P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UTOBUS PER I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BIGLIETTO ERA GRATIS PERCH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ABBIAMO VINTO AD UNA LOT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077320" cy="5638680"/>
          </a:xfrm>
          <a:prstGeom prst="wedgeRoundRectCallout">
            <a:avLst>
              <a:gd name="adj1" fmla="val 56703"/>
              <a:gd name="adj2" fmla="val 612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CALLOUT THAT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(IN WRITING) TH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AN SENTENCE OR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 TO LOOK AT THE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AY ATTENTION 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 OF THE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MEMBER THE USE OF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ADJECTIVES THAT WE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467840" cy="2057400"/>
          </a:xfrm>
          <a:prstGeom prst="wedgeRoundRectCallout">
            <a:avLst>
              <a:gd name="adj1" fmla="val -43430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W IS IT GO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 V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467840" cy="2057400"/>
          </a:xfrm>
          <a:prstGeom prst="wedgeRoundRectCallout">
            <a:avLst>
              <a:gd name="adj1" fmla="val -43430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IS Y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RO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V’E’ LA TUA CLAS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457200"/>
            <a:ext cx="8077320" cy="2057400"/>
          </a:xfrm>
          <a:prstGeom prst="wedgeRoundRectCallout">
            <a:avLst>
              <a:gd name="adj1" fmla="val -43925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SPEND Y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 HOLID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HAI PASSA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VACANZE DI NAT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8153640" cy="2057400"/>
          </a:xfrm>
          <a:prstGeom prst="wedgeRoundRectCallout">
            <a:avLst>
              <a:gd name="adj1" fmla="val -43981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OLOR IS YOUR SIST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END’S NEW BLUE C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352680"/>
            <a:ext cx="8229600" cy="2057400"/>
          </a:xfrm>
          <a:prstGeom prst="wedgeRoundRectCallout">
            <a:avLst>
              <a:gd name="adj1" fmla="val 40199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CHE COLORE E’ LA NUOVA MACCHINA B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L’AMICA DI TUA SOREL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57200"/>
            <a:ext cx="8458200" cy="2057400"/>
          </a:xfrm>
          <a:prstGeom prst="wedgeRoundRectCallout">
            <a:avLst>
              <a:gd name="adj1" fmla="val -40597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 WAS YOUNGER I USED TO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CER WITH M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352680"/>
            <a:ext cx="8458200" cy="2057400"/>
          </a:xfrm>
          <a:prstGeom prst="wedgeRoundRectCallout">
            <a:avLst>
              <a:gd name="adj1" fmla="val 39564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ERO PIU’ GIOV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OCAVO A PALLONE CON I MIEI AM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 MIE AMI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457200"/>
            <a:ext cx="8458200" cy="2133720"/>
          </a:xfrm>
          <a:prstGeom prst="wedgeRoundRectCallout">
            <a:avLst>
              <a:gd name="adj1" fmla="val -40597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WE PLAY AT THE COMPUTER 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INNER FOR OUR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EW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429000"/>
            <a:ext cx="8381880" cy="2286000"/>
          </a:xfrm>
          <a:prstGeom prst="wedgeRoundRectCallout">
            <a:avLst>
              <a:gd name="adj1" fmla="val 38560"/>
              <a:gd name="adj2" fmla="val 86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RE NOI GIOCHIAMO A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O PREPARANO LA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LA NOSTRA FAMI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LLA NUOVA CUC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153640" cy="2666880"/>
          </a:xfrm>
          <a:prstGeom prst="wedgeRoundRectCallout">
            <a:avLst>
              <a:gd name="adj1" fmla="val -50699"/>
              <a:gd name="adj2" fmla="val 64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BUILDING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52680"/>
            <a:ext cx="8534160" cy="2590920"/>
          </a:xfrm>
          <a:prstGeom prst="wedgeRoundRectCallout">
            <a:avLst>
              <a:gd name="adj1" fmla="val 43935"/>
              <a:gd name="adj2" fmla="val 745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 SONO MOLTI STUDEN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QUESTA SCU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L’EDIFICIO NON E’ MOLTO GRA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18:01:16Z</dcterms:created>
  <dc:creator>Remote</dc:creator>
  <dc:description/>
  <dc:language>en-US</dc:language>
  <cp:lastModifiedBy>Preferred Customer</cp:lastModifiedBy>
  <dcterms:modified xsi:type="dcterms:W3CDTF">2002-01-27T02:52:20Z</dcterms:modified>
  <cp:revision>1</cp:revision>
  <dc:subject/>
  <dc:title>No Slide Title</dc:title>
</cp:coreProperties>
</file>